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BA0-8E2D-496B-A585-AB5334F5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BF0-213B-4202-9A96-0ED917F0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EE8-CCA2-482B-BE8B-87BD22AC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581-E82E-4A36-BE55-8AC57E81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0B4-FB45-4015-80FD-4DF00C0E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5CB-5063-418A-BCDD-62789174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D18-6427-40D6-A085-D23DA3C6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5C9-4F0B-457A-8149-6EC5A972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931-2ED1-4495-B891-6DCFCA11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AC2-7E1E-4310-AE6C-385AC937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B86-405E-4F3E-BDBC-6CFB4F74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B42-4C1B-443F-BCC9-C4643EB0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E3B4-3D94-4FE4-B580-9918F1A3A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hamptongrade8math.wikispaces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95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Writing Algebraic Expressions to Solve Word Problem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3962520"/>
            <a:ext cx="8400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many minutes in 1 hour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4 hours, in "n" hours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You KNEW it was comin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99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the facts, write a formula for each and sol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ays in 3 wee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hours in 4 day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m in 1500 met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months in 13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weeks in 7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years in 3250 weeks? (carefu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years in 250 months? (carefu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minutes in 4 hou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hours in 17 da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kilometres in 4509 metres? (carefu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lide Show can be found at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ebruary Homewor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n our Math Web Site 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hamptongrade8math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gebra is used every day to solve everyday proble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have a job and you get paid $8.25 an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want to figure out how much pay you will receive if you worked 16 hou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4300560"/>
            <a:ext cx="28954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 can write in words, I get paid $8.25 for every hour I work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gebraically, you would writ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$8.25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ich means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8.25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TIM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the number of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our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you worked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 should always write the formula FIRST for every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, you would wr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$8.25h = p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substitute the number of hours into the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$8.25(16) = p  (pay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resu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pay would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$132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your answer as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p = $132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w it’s your tu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formula, calculate your pay if you wor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h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h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.5 h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2 h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0 h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1600200"/>
            <a:ext cx="4114800" cy="47217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ry question must start with the formula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$8.25h = p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n substitute into the formula the hours that you wor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member the answer is MONEY and should be in that form!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the same question with a twi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got paid $189.75, how many hours did you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get paid $8.25 an hou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ivide the pay by your rate of pay, ($8.25) to get the number of hours you wor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ally, it would look like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724280" y="2514600"/>
                <a:ext cx="40388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t xml:space="preserve">$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4577400" y="4952880"/>
            <a:ext cx="40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and you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orked, 23 hou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ome problems require that you know basic f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seconds in a minu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minutes in an h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hours in a d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ays in a we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ays in a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weeks in a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months in a ye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entimetres in a met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metres in a kilomet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ays in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re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e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Since you know that there are 7 days in a week, you can 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ays X the number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eeks 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the number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ys in a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r Algebra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Substitute into the formula what you k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alculat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 = 21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re are 21 days in three week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hours in four 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24 hours in on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4d = hours in 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4 (4) = 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 = 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 are 96 hours in 4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3:17:16Z</dcterms:created>
  <dc:creator>admin</dc:creator>
  <dc:description/>
  <dc:language>en-US</dc:language>
  <cp:lastModifiedBy>admin</cp:lastModifiedBy>
  <dcterms:modified xsi:type="dcterms:W3CDTF">2008-02-10T14:56:38Z</dcterms:modified>
  <cp:revision>9</cp:revision>
  <dc:subject/>
  <dc:title>Writing Algebraic Expressions to Solve Word Problems.</dc:title>
</cp:coreProperties>
</file>